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403850" cy="54038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2E76-E9C3-4EF7-9CD0-706539717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640" y="312336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3E25-A509-4313-9E3F-9B9F4ED90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6228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F637-FE7E-4E66-8A3C-82DBE60E7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1448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5896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64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1448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55896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B4CF-1D8B-434C-A374-6CFA4D397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21A0-3647-4140-B352-23D14C575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1692-731A-45C0-8028-68874F5BF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5E2D-7674-45A8-8A24-0037A0F8D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4487-2E60-4A5B-AAB7-54A7C53DF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9640" y="216000"/>
            <a:ext cx="486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48EF-19AA-4DD7-9F2D-17C50FDAC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9A0B-060A-4022-BFD1-9C30764F2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6228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9BC8-2FFF-4268-ACB9-5A951208D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4F19-773A-4426-A0E8-0F8B5371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16080" indent="-173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9640" y="4920840"/>
            <a:ext cx="126036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46080" y="4920840"/>
            <a:ext cx="171108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73240" y="4920840"/>
            <a:ext cx="126036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6A12D-57E6-46CE-8E0A-FF6FC67B6C2D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8"/>
          <p:cNvSpPr/>
          <p:nvPr/>
        </p:nvSpPr>
        <p:spPr>
          <a:xfrm>
            <a:off x="0" y="-34920"/>
            <a:ext cx="5424480" cy="2135160"/>
          </a:xfrm>
          <a:prstGeom prst="rect">
            <a:avLst/>
          </a:prstGeom>
          <a:solidFill>
            <a:srgbClr val="bbe0e3">
              <a:alpha val="15000"/>
            </a:srgbClr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0" y="4022640"/>
            <a:ext cx="5424480" cy="1381320"/>
          </a:xfrm>
          <a:prstGeom prst="rect">
            <a:avLst/>
          </a:prstGeom>
          <a:solidFill>
            <a:srgbClr val="005493">
              <a:alpha val="15000"/>
            </a:srgbClr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4"/>
          <p:cNvSpPr/>
          <p:nvPr/>
        </p:nvSpPr>
        <p:spPr>
          <a:xfrm>
            <a:off x="0" y="209232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Straight Arrow Connector 47"/>
          <p:cNvCxnSpPr/>
          <p:nvPr/>
        </p:nvCxnSpPr>
        <p:spPr>
          <a:xfrm>
            <a:off x="888840" y="436680"/>
            <a:ext cx="1037520" cy="8690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45" name="Straight Arrow Connector 48"/>
          <p:cNvCxnSpPr/>
          <p:nvPr/>
        </p:nvCxnSpPr>
        <p:spPr>
          <a:xfrm flipV="1">
            <a:off x="1925640" y="736200"/>
            <a:ext cx="869040" cy="56880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46" name="Straight Arrow Connector 50"/>
          <p:cNvCxnSpPr/>
          <p:nvPr/>
        </p:nvCxnSpPr>
        <p:spPr>
          <a:xfrm>
            <a:off x="1926720" y="2473200"/>
            <a:ext cx="1080" cy="5342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47" name="Line 4"/>
          <p:cNvSpPr/>
          <p:nvPr/>
        </p:nvSpPr>
        <p:spPr>
          <a:xfrm>
            <a:off x="0" y="247320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53"/>
          <p:cNvSpPr/>
          <p:nvPr/>
        </p:nvSpPr>
        <p:spPr>
          <a:xfrm>
            <a:off x="280440" y="131760"/>
            <a:ext cx="102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Inc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54"/>
          <p:cNvSpPr/>
          <p:nvPr/>
        </p:nvSpPr>
        <p:spPr>
          <a:xfrm>
            <a:off x="2226960" y="325440"/>
            <a:ext cx="113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Reflec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5"/>
          <p:cNvSpPr/>
          <p:nvPr/>
        </p:nvSpPr>
        <p:spPr>
          <a:xfrm>
            <a:off x="2315520" y="2125800"/>
            <a:ext cx="323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Absorbed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 (qsr_ice – qtr_ice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6"/>
          <p:cNvSpPr/>
          <p:nvPr/>
        </p:nvSpPr>
        <p:spPr>
          <a:xfrm>
            <a:off x="1877760" y="2637000"/>
            <a:ext cx="316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Transmitted - top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 (qtr_ice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4"/>
          <p:cNvSpPr/>
          <p:nvPr/>
        </p:nvSpPr>
        <p:spPr>
          <a:xfrm>
            <a:off x="0" y="402264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Straight Arrow Connector 58"/>
          <p:cNvCxnSpPr/>
          <p:nvPr/>
        </p:nvCxnSpPr>
        <p:spPr>
          <a:xfrm>
            <a:off x="1925640" y="2263320"/>
            <a:ext cx="496080" cy="108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54" name="Straight Arrow Connector 60"/>
          <p:cNvCxnSpPr/>
          <p:nvPr/>
        </p:nvCxnSpPr>
        <p:spPr>
          <a:xfrm flipH="1">
            <a:off x="1925280" y="4022640"/>
            <a:ext cx="2160" cy="30060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55" name="TextBox 63"/>
          <p:cNvSpPr/>
          <p:nvPr/>
        </p:nvSpPr>
        <p:spPr>
          <a:xfrm>
            <a:off x="191880" y="21258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64"/>
          <p:cNvSpPr/>
          <p:nvPr/>
        </p:nvSpPr>
        <p:spPr>
          <a:xfrm>
            <a:off x="125640" y="2577960"/>
            <a:ext cx="135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SNOW / SEA 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65"/>
          <p:cNvSpPr/>
          <p:nvPr/>
        </p:nvSpPr>
        <p:spPr>
          <a:xfrm>
            <a:off x="280440" y="4102200"/>
            <a:ext cx="71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66"/>
          <p:cNvSpPr/>
          <p:nvPr/>
        </p:nvSpPr>
        <p:spPr>
          <a:xfrm>
            <a:off x="2366280" y="3211560"/>
            <a:ext cx="117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Myriad Pro"/>
              </a:rPr>
              <a:t>Attenuation (</a:t>
            </a:r>
            <a:r>
              <a:rPr b="0" i="1" lang="el-GR" sz="1200" spc="-1" strike="noStrike">
                <a:solidFill>
                  <a:srgbClr val="000000"/>
                </a:solidFill>
                <a:latin typeface="Myriad Pro"/>
              </a:rPr>
              <a:t>κ</a:t>
            </a:r>
            <a:r>
              <a:rPr b="0" i="1" lang="fr-FR" sz="1200" spc="-1" strike="noStrike">
                <a:solidFill>
                  <a:srgbClr val="000000"/>
                </a:solidFill>
                <a:latin typeface="Myriad Pro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Straight Arrow Connector 50"/>
          <p:cNvCxnSpPr/>
          <p:nvPr/>
        </p:nvCxnSpPr>
        <p:spPr>
          <a:xfrm>
            <a:off x="1925280" y="1275840"/>
            <a:ext cx="1080" cy="8168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60" name="TextBox 54"/>
          <p:cNvSpPr/>
          <p:nvPr/>
        </p:nvSpPr>
        <p:spPr>
          <a:xfrm>
            <a:off x="1938960" y="1628640"/>
            <a:ext cx="138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Net 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(qsr_i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56"/>
          <p:cNvSpPr/>
          <p:nvPr/>
        </p:nvSpPr>
        <p:spPr>
          <a:xfrm>
            <a:off x="1956600" y="4071960"/>
            <a:ext cx="363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Transmitted -  bottom 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(qtr_ice_bo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8T10:15:15Z</dcterms:created>
  <dc:creator>Free User</dc:creator>
  <dc:description/>
  <dc:language>en-US</dc:language>
  <cp:lastModifiedBy>Martin Vancoppenolle</cp:lastModifiedBy>
  <cp:lastPrinted>2011-09-08T15:36:52Z</cp:lastPrinted>
  <dcterms:modified xsi:type="dcterms:W3CDTF">2018-07-24T12:50:49Z</dcterms:modified>
  <cp:revision>22</cp:revision>
  <dc:subject/>
  <dc:title>Diapositive 1</dc:title>
</cp:coreProperties>
</file>